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1.wmf" ContentType="image/x-wmf"/>
  <Override PartName="/ppt/media/image28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9.wmf" ContentType="image/x-wmf"/>
  <Override PartName="/ppt/media/image39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A39D-F0E4-4236-B704-13C94FA97E8B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CCDA-6C0A-49C7-B51F-C7304D9AC5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4E28-E704-4215-B4F0-6A6D261FBD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6E68-6FB9-4DAC-B34E-72B349BF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1195-5642-40B9-B17F-D48D61C6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68EC3-1F7C-4ED2-8088-58ADAA03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BE006-1765-41EC-A0A8-F5D3F04D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D372D-286E-466D-8E14-56B42544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8A3E3-835E-41C9-BBA9-C582C724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EC869-8BD7-4395-B809-9E0F475D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19963-E3AF-4D26-AD8D-7B95E580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A4437-05B9-4BA0-9AA8-1F8B734C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F9D0F-CE43-4F9C-92E2-22C17547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D7DF2-1E73-4E1D-A7A8-5E026EE7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5477A-B478-405E-9293-FAB529AE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033-4BC6-454D-809E-FF7A000E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6D3B5-EE27-4197-9196-12D053BD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B3F5D-399E-48C6-A887-C1350A4B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FEA7C-D8A8-4CE9-A2EB-5767BDDD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EDB24-20EE-4633-A9B9-E073CFAD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84075-DF05-4D56-A38D-67251D6B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DA07D-32E9-4AF3-979F-0B537134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BE6E1-3B29-4275-9810-48881BC3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91E19-4E7A-4D26-97D6-121910CC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ADEE9-9640-45F7-815E-CE9205F8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C09D8-5E9B-4745-AAF3-8E203AF4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6EAF-43AE-472D-9D4B-B3C33C95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3B053-C719-4452-8BFB-282ED535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FAFA9-6027-4B6A-A3E7-2A6AF56C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7256D-AAB6-460D-9E58-EDD1EF6C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B7491-9616-46CE-96EB-FF915251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BF963-C452-407E-9646-C9997D43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7F130-8040-4CCE-B251-646B8DFD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25074-CDFF-4E4F-913F-24E0C76E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90B1C-2AB8-47DC-8119-850833E5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15D3D-A919-49D2-BD74-DEFBD904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44EEB-A720-434E-BC01-E6AD240B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1135-81E2-4BBB-B314-0804AD02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0F2DA-065C-4350-98AC-58B1F8B0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24712-A573-4853-BF52-95840FC4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32989-15DB-4C43-AD5B-594B0EAA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30C12-B7E9-4A73-BCD2-C07887CD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361D6-DC8C-437C-BA13-25F806C5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D7EFA-EEF9-4F36-823F-361717E5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2F6AB-14D6-46A0-BC04-3B49CD00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E99D3-D4D6-44EF-B8BE-A060914F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C9367-626A-43CF-B994-017AC910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E8322-8796-468D-8B0A-6D86DF43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C41E-1813-4340-ADBF-88F95EC4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9D14A-C469-46A0-8124-A25E842B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151BB-3DF2-42D6-9BB3-067E4E38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2708F-68A3-48BF-AB6E-1AF537FF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1D1DB-B198-46B9-A437-634906FD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DFE68-21E8-496A-BDF6-745662B1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382D6-C496-4031-AFDB-80738546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032962-4036-40A0-A1E5-A4391A9E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A343E1-6B84-43EB-AF32-D398746C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581789-3A0C-47AE-A5E9-5BF2497A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CF2834-55D9-4302-9258-A10F7F4A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AAD7-E118-4D9A-9D55-DBBE4D2D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C36554-95B4-4EFA-BA8D-3A07B64C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0FB55-33C6-4C4C-B328-3FA23255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4A8DC-01E2-4712-8594-5F1C627D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30A9E1-28A2-4CBE-A981-3F910E6D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F2E5C-B77B-49C4-9287-067F90F2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BD3A3-06B8-45AE-947D-60F9C23A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BC8D6-295C-462F-A0BE-B48F6B78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097832-035A-480F-A971-89E42437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DBCB83-D3F4-45B3-A522-E4F824DC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A3FA8A-85F8-4E7A-B30B-0424CA08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178A-71C1-4F30-B85F-994D9963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1EEB48-0127-4DA7-8786-C65F697B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CF3699-D80A-46BD-A04D-D602E7D9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78B4AE-E7E6-4BD2-AA54-F962E285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25CD4D-298A-424A-B7A0-EBCF8822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590FF0-0131-4536-8C8E-214AAB9C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74E9F2-F929-4197-A641-C7DFACC6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742337-7D44-4171-B14D-559728BD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00B1DB-2579-4748-9329-982B6BF3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875D0D-5206-4330-AB08-34DE8A85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0D78A8-5A31-43D1-9124-2DEA4751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D555-818A-4E46-B610-97FB74DB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31292C-0319-4578-9919-B5252ED2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35006D-8693-4B58-B4AD-DD6B7E0A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069933-22CC-4B88-8F13-252F1CCD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F25FB2-9548-4CD7-ADA9-E2EB4500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53C646-3676-4529-B272-5BF6C2FD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695423-D6D3-459C-B5CF-30226DFA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64F57F-CD01-4D4C-9CE3-7B73A22E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9B263A-9335-4EF4-84E9-26160B7D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3FEEFF-58A1-4F39-8666-F097B40F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129137-52EE-4E54-BC25-1055E95B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883E-2C4E-47C5-8348-614D90AF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DE3376-5CBF-45C1-9821-82DFDFC3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2096EE-6B97-4822-BAAC-2203726C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9EFC67-FC08-447C-8594-2559396B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66B825-52B1-4F82-9DA3-013EC68C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81C5DF-909C-47CA-A8EA-31B77C02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180577-7E01-4100-B76A-E0CCB109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C8ADF6-0A7D-4795-85BB-0F79AF9C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8FBF31-BCEA-4B58-98AC-5E78CDB8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D7134E-88CE-4A75-A9BC-C95B327B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FD6203-5214-493E-AD93-E0A6AB40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CD91-B5B8-412F-86C3-259E8342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4DA4DF-8A83-45EF-ADED-2515E203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117263-D96D-4974-9DB6-480AD187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90D47F-D80F-4D60-A257-D8D185BE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DBD-93C2-4495-9F68-CA8484F3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B4B9-A26D-4122-B4D0-D04BC522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1D1F-49F4-4001-A879-85CFF6AB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D9E2-0730-40B6-AC10-C37B9C42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2475-B255-4A4A-B08B-F64EEBB4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678D-968F-4DA5-AB9E-542A3577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95CD6-0198-488C-BB1A-745AAA10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AEB7E-FF60-42EF-936E-587F942E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D2F7E-FEB8-48C4-A6E6-4FDCE31E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0AE49-0D57-4F7B-9DA1-65E03EA0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43115-47A4-4B4A-B395-47A1D04F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DB03-4C58-4BA8-BC2A-7592962C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3F9BD-CEAF-413C-9AFA-87DED5E8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2D0F7-442D-4764-960E-9EF72741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DA1F2-D107-423C-8B36-51F12624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D4BCC-D438-4456-A73B-0967CA7D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E273C-8A90-4C30-B3E6-B7F8F27B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465FC-4428-4048-8BB4-06F424DE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E069D-4BA2-4FA0-9FC6-38B492F6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8251F-FC81-40CF-9196-5916B7BD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2FB67-BABC-4160-B139-6646323D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31118-AE6E-40CE-AD6F-2BB1EBBB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0B75-CC7F-4F4F-A2B9-1AAF8AA4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062D9-8FF3-4BD6-AB92-0299E8C4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391DB-1DCA-4926-9070-FD02629B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95971-F934-4A00-AC27-AF05CF7F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53B90-7D69-436A-A7A5-E80E86B5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9175B-9903-47E6-831D-363DB7E0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1A62D-A59D-417A-B1A8-BB758F81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8F868-FEA2-4AC3-B8BC-5BEF7E4F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C0256-0D93-41DC-8944-1F4F476A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01E8A-C7B7-48FF-B7E2-79C7E6EE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FC82F-B5CA-4B9B-B2E7-F2E55D82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1633-0BC9-407F-BD46-7D7C1935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70898-35BA-4474-9168-61B34C55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685D3-08F8-4508-A0A4-25E41212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486E1-04F1-4FE8-9D99-E235BB41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33043-31B7-4933-B5EF-A82128A8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9354A-7BFE-46CE-AE6E-AF7BFEFB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C1F73-C9EF-4F3B-A762-33489515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AEF2A-CC42-4167-A6DA-9206FFA6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020FC-F50C-4019-A2E5-9912EF9C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E3F8E-1D3B-4884-A0CD-D043E583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7BF04-4CC4-4DF2-B7E8-210C69DF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D42F-C79A-4BB6-BB56-0EC9AA05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2D0A3-AB5F-4BFE-B1E8-0C7688CB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8A4BE-6A35-4EE0-8043-908C8837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8AF69-CB1C-48D9-B65D-9A6395C6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9921C-5FC6-41FA-A3EE-C9C0CC87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C2596-22B3-432D-8C18-056817C1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14EDE-824B-4616-ADEC-710EB20C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BC724-20F7-4DF7-B0F8-0E034BCE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94190-00CF-4AD4-90AE-BDBDD74C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81A6D-8DA6-4F94-B738-7F02F701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7CE05-D81E-465F-8A18-2914D0C8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3E8F-42D0-4114-85AD-B9061E71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262B9-CD3B-4F30-9F9C-49436278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B3BD9-93AC-45C3-9951-9C628603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0B3DB-D72C-41C4-A463-DA5DF57F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5C704-E135-4B7F-8B1B-FE18FA6F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7A4A4-D93C-4CD4-AEFF-9B4DED92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DF274-4C47-4807-B054-60A03AD1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FC1D6-0B17-42FB-B32E-FFE294C0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32250-61F5-4C01-B32E-6CB0CD1B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8BF71-1525-4654-A91D-80F4BC37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3B982-546A-4707-BF98-838EFE4F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5026-68B7-49F9-BE3F-E6869707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F4C7F-055E-4317-8989-D1FA2510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15626-3459-4DAE-A0B5-87075FCC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F576A-028D-4B70-BA50-D33AAC3B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2ED08-EE70-4F6A-ACAD-D7063050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6E617-BEB1-41C9-A78D-B6ED6F0D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9E461-E668-4430-BBE3-71EAAD75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0D4AD-FF98-4920-80D3-F08AA200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2FF91-F8D1-4734-9718-EB662498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698DE-5C85-44B0-9112-421EFEA2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DD716-5EF3-418A-B79B-02DD1A2B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E84D-6D13-4EF8-B620-D9B32263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C0269-AFF1-4D76-BAD7-5C215677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75E7E-7D71-42C6-B0D5-509B9860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0952B-0A8B-4F8B-986E-CD07C104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255F1-2864-4D91-8FA9-6950CD34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82EB2-691D-408C-970F-0035C5CE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B33C6-516E-48FF-82ED-A3C6F8DE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D48B3-005C-4CC3-9AAA-10206ADC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290D9-0C2A-4BC0-8EF1-55622365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8E2C4-84AB-42D1-B5B8-66405646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D080E-4404-4E0B-98C9-E03C5D31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F2F2-F306-4F7E-8E70-34845CA9579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780506F-98F5-48FF-A000-88F9071AD15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286E-C563-4E00-B4AE-B3D44E7759B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C03DBC2-7ECA-4139-A7A7-14B5D521C2F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7BE3-6831-4E1C-8A08-C39E8A23E96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900C016-6387-459D-A4B9-CE0017B9E09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F77A-6DEE-4F01-B989-05C936192EB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5F362D0-A527-4E0E-A6FC-CE2EFD5C841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167E-B128-494A-94E9-CBF0F137D90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9C86EEA-5A26-4250-8C21-C93BA52106B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EE78-724D-483D-A9FE-745B75E5872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FD54E45-69A0-4E52-ADF7-B4B9D311A06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8ADE-FBEF-4FB1-A5FA-9F151E10E75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71C6C35-94AE-4AC7-A0CF-CAC7C09FF51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8155-8EC1-404C-B3B5-A4420AEE135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001FEF4-73FD-4C3D-88BB-27E2EA750A9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3788-4F25-4E80-8B20-E2F6BE9D338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851E6F9-BFC5-48B7-9282-695CA033EC7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A8CB-D5F8-41CE-9F53-BC60EB93FB8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F75ABE5-38F9-4EFF-A1EB-8D6B74F9905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6BC8-F345-4578-87A3-704FA617C8D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43A6C36-27F8-413E-8023-76830591690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3460-02BF-4E13-8F68-CF010741A10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6A4BD85-C8FE-4AE2-8BD3-97CA510D04B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BF12-B8AD-436E-93A7-F102CD1D64E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B164F59-8988-4354-9066-5D927D4870A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25C0-9BC2-483E-9944-3CE84F48BA8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BE00D6F-B26A-40BD-AE68-86B3A5C7869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B9E7-A6A5-4485-846D-5C5B9B6F56E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B2A768F-A799-4A81-AAA3-836AB2A0267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030C-D7BA-453F-A50B-A64F591A221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01705F1-C5B4-4572-88FC-888583201B1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Russian banking system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in the world financial turmoil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5"/>
          <p:cNvSpPr/>
          <p:nvPr/>
        </p:nvSpPr>
        <p:spPr>
          <a:xfrm>
            <a:off x="298440" y="4714920"/>
            <a:ext cx="73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Garegin A. Tosuny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27th MEETING OF THE EBF ASSOCIAT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4 December 2008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russels,</a:t>
            </a:r>
            <a:r>
              <a:rPr b="1" lang="ru-RU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elgiu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457200" y="30002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have to dig a well before parched with thirst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mar Hay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F69AC53-5CFC-4D8A-A7C0-A7E2C4FBEFE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F38E9E5-6DD2-4E63-85B8-12CABD314E2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ets growth rates slow dow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ource base defic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5" name="Object 3" descr=""/>
          <p:cNvPicPr/>
          <p:nvPr/>
        </p:nvPicPr>
        <p:blipFill>
          <a:blip r:embed="rId1"/>
          <a:stretch/>
        </p:blipFill>
        <p:spPr>
          <a:xfrm>
            <a:off x="12600" y="1666800"/>
            <a:ext cx="9131400" cy="49989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5"/>
          <p:cNvSpPr/>
          <p:nvPr/>
        </p:nvSpPr>
        <p:spPr>
          <a:xfrm>
            <a:off x="371520" y="650088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5FCEDF4-EA9D-471A-A64C-E6B4B9CB60F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lowdown in the growth rat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resource base affects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rowth rate of personal loa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9" name="Object 3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060880"/>
          </a:xfrm>
          <a:prstGeom prst="rect">
            <a:avLst/>
          </a:prstGeom>
          <a:ln w="0">
            <a:noFill/>
          </a:ln>
        </p:spPr>
      </p:pic>
      <p:sp>
        <p:nvSpPr>
          <p:cNvPr id="740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5D72B22-FD3C-4B7B-BB24-E878278EB65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owth rates of loans to entities redu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Object 3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1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2D80F09-9831-4EC5-9E7D-01A6AE9A866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6" name="Диаграмма 4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429760" cy="485784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2"/>
          <p:cNvSpPr/>
          <p:nvPr/>
        </p:nvSpPr>
        <p:spPr>
          <a:xfrm>
            <a:off x="1979640" y="692280"/>
            <a:ext cx="71643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ortage of banks’ resources should be covered by state fun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F916D1F-F8E1-4299-B1AD-460D9D9721B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asures taken by the State are         of short-term character and will only help   to get over current issu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midterm liquidity constraints may be deepened by the necessity of payments on foreign loans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B2392E4-FA59-47D4-B4A3-B44BF591D6F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ernal debt of Russian Fed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06200" y="2565360"/>
          <a:ext cx="8929800" cy="3611520"/>
        </p:xfrm>
        <a:graphic>
          <a:graphicData uri="http://schemas.openxmlformats.org/drawingml/2006/table">
            <a:tbl>
              <a:tblPr/>
              <a:tblGrid>
                <a:gridCol w="3146760"/>
                <a:gridCol w="1068120"/>
                <a:gridCol w="1193760"/>
                <a:gridCol w="1258920"/>
                <a:gridCol w="1130400"/>
                <a:gridCol w="1131840"/>
              </a:tblGrid>
              <a:tr h="576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7.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1 ye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2 yea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6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3,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state deb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,7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corpora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5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,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7,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Oval 39"/>
          <p:cNvSpPr/>
          <p:nvPr/>
        </p:nvSpPr>
        <p:spPr>
          <a:xfrm>
            <a:off x="4492800" y="4929120"/>
            <a:ext cx="1150920" cy="14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40"/>
          <p:cNvSpPr/>
          <p:nvPr/>
        </p:nvSpPr>
        <p:spPr>
          <a:xfrm>
            <a:off x="6372360" y="2197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 bl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F679178-2537-44CF-80B8-2D3B34BF7A3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n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antirecessionary measures of the Russian Government are adequate to the current situation in banking sector, howev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A74811B-62F3-40F8-B491-213A2D28451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TextBox 3"/>
          <p:cNvSpPr/>
          <p:nvPr/>
        </p:nvSpPr>
        <p:spPr>
          <a:xfrm>
            <a:off x="357120" y="1500120"/>
            <a:ext cx="70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 additional steps should be taken for stabilization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0" name="Схема 4" descr=""/>
          <p:cNvPicPr/>
          <p:nvPr/>
        </p:nvPicPr>
        <p:blipFill>
          <a:blip r:embed="rId1"/>
          <a:stretch/>
        </p:blipFill>
        <p:spPr>
          <a:xfrm>
            <a:off x="195120" y="2249640"/>
            <a:ext cx="86868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2ED993C-439E-4E60-B686-EB37FCB0802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684360" y="2419200"/>
            <a:ext cx="773892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problems in the banking system and the financial sector in Russia have not been caused by internal economic developments. They have been “delivered” by the international financial turmoil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its basic characteristics Russian economy is attractive for long-term invest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pite the market slum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Диаграмма 8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6286680" cy="26431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influence of the crisis on the banking system and the economy of Rus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1D5A3A6-F990-4BED-9DD0-E90BE757963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6682680" y="1785960"/>
            <a:ext cx="223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Sep.-Oc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reserv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reduc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y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9,1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0" name="Схема 12" descr=""/>
          <p:cNvPicPr/>
          <p:nvPr/>
        </p:nvPicPr>
        <p:blipFill>
          <a:blip r:embed="rId2"/>
          <a:stretch/>
        </p:blipFill>
        <p:spPr>
          <a:xfrm>
            <a:off x="-19080" y="3505320"/>
            <a:ext cx="9248760" cy="3359160"/>
          </a:xfrm>
          <a:prstGeom prst="rect">
            <a:avLst/>
          </a:prstGeom>
          <a:ln w="0">
            <a:noFill/>
          </a:ln>
        </p:spPr>
      </p:pic>
      <p:sp>
        <p:nvSpPr>
          <p:cNvPr id="671" name="TextBox 13"/>
          <p:cNvSpPr/>
          <p:nvPr/>
        </p:nvSpPr>
        <p:spPr>
          <a:xfrm>
            <a:off x="2328480" y="5929200"/>
            <a:ext cx="36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Verdana"/>
              </a:rPr>
              <a:t>the course of the crisi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Box 7"/>
          <p:cNvSpPr/>
          <p:nvPr/>
        </p:nvSpPr>
        <p:spPr>
          <a:xfrm>
            <a:off x="546480" y="4000680"/>
            <a:ext cx="152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Bank of Russia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571680" y="1547640"/>
            <a:ext cx="5857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national reserves of Russian Federation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$ bln.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Содержимое 16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4" name="Содержимое 14" descr=""/>
          <p:cNvPicPr/>
          <p:nvPr/>
        </p:nvPicPr>
        <p:blipFill>
          <a:blip r:embed="rId2"/>
          <a:stretch/>
        </p:blipFill>
        <p:spPr>
          <a:xfrm>
            <a:off x="4929120" y="1857240"/>
            <a:ext cx="4038840" cy="4597560"/>
          </a:xfrm>
          <a:prstGeom prst="rect">
            <a:avLst/>
          </a:prstGeom>
          <a:ln w="0">
            <a:noFill/>
          </a:ln>
        </p:spPr>
      </p:pic>
      <p:sp>
        <p:nvSpPr>
          <p:cNvPr id="765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AB083EC-0060-4181-AA50-AA5B8F44487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6" name="Picture 34" descr=""/>
          <p:cNvPicPr/>
          <p:nvPr/>
        </p:nvPicPr>
        <p:blipFill>
          <a:blip r:embed="rId3"/>
          <a:stretch/>
        </p:blipFill>
        <p:spPr>
          <a:xfrm>
            <a:off x="138240" y="346716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5" descr=""/>
          <p:cNvPicPr/>
          <p:nvPr/>
        </p:nvPicPr>
        <p:blipFill>
          <a:blip r:embed="rId4"/>
          <a:stretch/>
        </p:blipFill>
        <p:spPr>
          <a:xfrm>
            <a:off x="139680" y="4754520"/>
            <a:ext cx="432000" cy="389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6" descr=""/>
          <p:cNvPicPr/>
          <p:nvPr/>
        </p:nvPicPr>
        <p:blipFill>
          <a:blip r:embed="rId5"/>
          <a:stretch/>
        </p:blipFill>
        <p:spPr>
          <a:xfrm>
            <a:off x="142920" y="542916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37" descr=""/>
          <p:cNvPicPr/>
          <p:nvPr/>
        </p:nvPicPr>
        <p:blipFill>
          <a:blip r:embed="rId6"/>
          <a:stretch/>
        </p:blipFill>
        <p:spPr>
          <a:xfrm>
            <a:off x="163440" y="2814480"/>
            <a:ext cx="408240" cy="3286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43" descr=""/>
          <p:cNvPicPr/>
          <p:nvPr/>
        </p:nvPicPr>
        <p:blipFill>
          <a:blip r:embed="rId7"/>
          <a:stretch/>
        </p:blipFill>
        <p:spPr>
          <a:xfrm>
            <a:off x="4641840" y="2111400"/>
            <a:ext cx="431640" cy="3888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4" descr=""/>
          <p:cNvPicPr/>
          <p:nvPr/>
        </p:nvPicPr>
        <p:blipFill>
          <a:blip r:embed="rId8"/>
          <a:stretch/>
        </p:blipFill>
        <p:spPr>
          <a:xfrm>
            <a:off x="4641840" y="278604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5" descr=""/>
          <p:cNvPicPr/>
          <p:nvPr/>
        </p:nvPicPr>
        <p:blipFill>
          <a:blip r:embed="rId9"/>
          <a:stretch/>
        </p:blipFill>
        <p:spPr>
          <a:xfrm>
            <a:off x="4641840" y="414324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7" descr=""/>
          <p:cNvPicPr/>
          <p:nvPr/>
        </p:nvPicPr>
        <p:blipFill>
          <a:blip r:embed="rId10"/>
          <a:stretch/>
        </p:blipFill>
        <p:spPr>
          <a:xfrm>
            <a:off x="4641840" y="3500280"/>
            <a:ext cx="407880" cy="328680"/>
          </a:xfrm>
          <a:prstGeom prst="rect">
            <a:avLst/>
          </a:prstGeom>
          <a:ln w="0">
            <a:noFill/>
          </a:ln>
        </p:spPr>
      </p:pic>
      <p:sp>
        <p:nvSpPr>
          <p:cNvPr id="774" name="TextBox 17"/>
          <p:cNvSpPr/>
          <p:nvPr/>
        </p:nvSpPr>
        <p:spPr>
          <a:xfrm>
            <a:off x="993600" y="1643040"/>
            <a:ext cx="25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per capita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Box 18"/>
          <p:cNvSpPr/>
          <p:nvPr/>
        </p:nvSpPr>
        <p:spPr>
          <a:xfrm>
            <a:off x="6000840" y="164304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6" name="Picture 4" descr=""/>
          <p:cNvPicPr/>
          <p:nvPr/>
        </p:nvPicPr>
        <p:blipFill>
          <a:blip r:embed="rId11"/>
          <a:stretch/>
        </p:blipFill>
        <p:spPr>
          <a:xfrm>
            <a:off x="147600" y="4143240"/>
            <a:ext cx="424080" cy="3574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4" descr=""/>
          <p:cNvPicPr/>
          <p:nvPr/>
        </p:nvPicPr>
        <p:blipFill>
          <a:blip r:embed="rId12"/>
          <a:stretch/>
        </p:blipFill>
        <p:spPr>
          <a:xfrm>
            <a:off x="4610160" y="4786200"/>
            <a:ext cx="423720" cy="357480"/>
          </a:xfrm>
          <a:prstGeom prst="rect">
            <a:avLst/>
          </a:prstGeom>
          <a:ln w="0">
            <a:noFill/>
          </a:ln>
        </p:spPr>
      </p:pic>
      <p:pic>
        <p:nvPicPr>
          <p:cNvPr id="778" name="chart" descr=""/>
          <p:cNvPicPr/>
          <p:nvPr/>
        </p:nvPicPr>
        <p:blipFill>
          <a:blip r:embed="rId13"/>
          <a:stretch/>
        </p:blipFill>
        <p:spPr>
          <a:xfrm>
            <a:off x="4603680" y="5429160"/>
            <a:ext cx="428760" cy="373320"/>
          </a:xfrm>
          <a:prstGeom prst="rect">
            <a:avLst/>
          </a:prstGeom>
          <a:ln w="0">
            <a:noFill/>
          </a:ln>
        </p:spPr>
      </p:pic>
      <p:pic>
        <p:nvPicPr>
          <p:cNvPr id="779" name="chart" descr=""/>
          <p:cNvPicPr/>
          <p:nvPr/>
        </p:nvPicPr>
        <p:blipFill>
          <a:blip r:embed="rId14"/>
          <a:stretch/>
        </p:blipFill>
        <p:spPr>
          <a:xfrm>
            <a:off x="155520" y="2143080"/>
            <a:ext cx="428760" cy="37296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2"/>
          <p:cNvSpPr/>
          <p:nvPr/>
        </p:nvSpPr>
        <p:spPr>
          <a:xfrm>
            <a:off x="2000160" y="714240"/>
            <a:ext cx="71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of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erging mark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TextBox 24"/>
          <p:cNvSpPr/>
          <p:nvPr/>
        </p:nvSpPr>
        <p:spPr>
          <a:xfrm>
            <a:off x="104400" y="6500880"/>
            <a:ext cx="95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ource: IMF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0833B67-2195-4F49-9130-70BDB5236AA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indexes             of various countries and Russia in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4" name="Object 2" descr=""/>
          <p:cNvPicPr/>
          <p:nvPr/>
        </p:nvPicPr>
        <p:blipFill>
          <a:blip r:embed="rId1"/>
          <a:stretch/>
        </p:blipFill>
        <p:spPr>
          <a:xfrm>
            <a:off x="-79200" y="1685880"/>
            <a:ext cx="9144000" cy="4336920"/>
          </a:xfrm>
          <a:prstGeom prst="rect">
            <a:avLst/>
          </a:prstGeom>
          <a:ln w="0">
            <a:noFill/>
          </a:ln>
        </p:spPr>
      </p:pic>
      <p:pic>
        <p:nvPicPr>
          <p:cNvPr id="785" name="Object 3" descr=""/>
          <p:cNvPicPr/>
          <p:nvPr/>
        </p:nvPicPr>
        <p:blipFill>
          <a:blip r:embed="rId2"/>
          <a:stretch/>
        </p:blipFill>
        <p:spPr>
          <a:xfrm>
            <a:off x="250920" y="1714680"/>
            <a:ext cx="91821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AB2597D-8EEC-4CDC-B65D-20F01656D5F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pitalization of the banking system slows dow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trictive monetary policy and outflow of foreign liabilities of Russian bank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8" name="Object 3" descr=""/>
          <p:cNvPicPr/>
          <p:nvPr/>
        </p:nvPicPr>
        <p:blipFill>
          <a:blip r:embed="rId1"/>
          <a:stretch/>
        </p:blipFill>
        <p:spPr>
          <a:xfrm>
            <a:off x="0" y="1522440"/>
            <a:ext cx="9144000" cy="5049720"/>
          </a:xfrm>
          <a:prstGeom prst="rect">
            <a:avLst/>
          </a:prstGeom>
          <a:ln w="0">
            <a:noFill/>
          </a:ln>
        </p:spPr>
      </p:pic>
      <p:sp>
        <p:nvSpPr>
          <p:cNvPr id="789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CDB14DD-49CA-4D40-8397-F7F8FD148AE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urmoil both on global and Russian markets leads to the outgo of foreig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2" name="Object 4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793" name="TextBox 7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43B13EF-CB2D-43E2-B15B-FA42CCDB7F8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estic liabilities of bank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6" name="Object 3" descr=""/>
          <p:cNvPicPr/>
          <p:nvPr/>
        </p:nvPicPr>
        <p:blipFill>
          <a:blip r:embed="rId1"/>
          <a:stretch/>
        </p:blipFill>
        <p:spPr>
          <a:xfrm>
            <a:off x="57240" y="1428840"/>
            <a:ext cx="9086760" cy="5184720"/>
          </a:xfrm>
          <a:prstGeom prst="rect">
            <a:avLst/>
          </a:prstGeom>
          <a:ln w="0">
            <a:noFill/>
          </a:ln>
        </p:spPr>
      </p:pic>
      <p:sp>
        <p:nvSpPr>
          <p:cNvPr id="797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6CEDED4-C336-415C-B4B8-CE0C380E48B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growth rates slow down in 2008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Oval 4"/>
          <p:cNvSpPr/>
          <p:nvPr/>
        </p:nvSpPr>
        <p:spPr>
          <a:xfrm>
            <a:off x="5054760" y="2205000"/>
            <a:ext cx="20174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1" name="Object 2" descr=""/>
          <p:cNvPicPr/>
          <p:nvPr/>
        </p:nvPicPr>
        <p:blipFill>
          <a:blip r:embed="rId1"/>
          <a:stretch/>
        </p:blipFill>
        <p:spPr>
          <a:xfrm>
            <a:off x="0" y="1614600"/>
            <a:ext cx="91440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CD7FBC6-DE47-4B64-B263-A49E774D1F5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Object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verage indicators of personal income growt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ceed price increase, nevertheless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Oval 3"/>
          <p:cNvSpPr/>
          <p:nvPr/>
        </p:nvSpPr>
        <p:spPr>
          <a:xfrm>
            <a:off x="3708360" y="3139920"/>
            <a:ext cx="100800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5842080" y="4692600"/>
            <a:ext cx="247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flation firstl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ts away”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inc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f the poores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pulation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EDADB07-8556-44DE-898E-DFD7A12F726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ross-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tional income spread is wid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09" name="Group 17"/>
          <p:cNvGrpSpPr/>
          <p:nvPr/>
        </p:nvGrpSpPr>
        <p:grpSpPr>
          <a:xfrm>
            <a:off x="755640" y="1495440"/>
            <a:ext cx="7777080" cy="5102280"/>
            <a:chOff x="755640" y="1495440"/>
            <a:chExt cx="7777080" cy="5102280"/>
          </a:xfrm>
        </p:grpSpPr>
        <p:pic>
          <p:nvPicPr>
            <p:cNvPr id="810" name="Picture 3" descr=""/>
            <p:cNvPicPr/>
            <p:nvPr/>
          </p:nvPicPr>
          <p:blipFill>
            <a:blip r:embed="rId1"/>
            <a:stretch/>
          </p:blipFill>
          <p:spPr>
            <a:xfrm>
              <a:off x="755640" y="1913040"/>
              <a:ext cx="7777080" cy="46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4"/>
            <p:cNvSpPr/>
            <p:nvPr/>
          </p:nvSpPr>
          <p:spPr>
            <a:xfrm>
              <a:off x="2472840" y="1495440"/>
              <a:ext cx="411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Lorenz Curve &amp; Gini Inde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2" name="Text Box 5"/>
            <p:cNvSpPr/>
            <p:nvPr/>
          </p:nvSpPr>
          <p:spPr>
            <a:xfrm>
              <a:off x="5796000" y="4781520"/>
              <a:ext cx="2408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Verdana"/>
                </a:rPr>
                <a:t>80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the population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btain 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Verdana"/>
                </a:rPr>
                <a:t>45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income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3" name="Text Box 7"/>
            <p:cNvSpPr/>
            <p:nvPr/>
          </p:nvSpPr>
          <p:spPr>
            <a:xfrm>
              <a:off x="808200" y="5816520"/>
              <a:ext cx="4340160" cy="580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population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Text Box 8"/>
            <p:cNvSpPr/>
            <p:nvPr/>
          </p:nvSpPr>
          <p:spPr>
            <a:xfrm rot="16200000">
              <a:off x="-147240" y="3865320"/>
              <a:ext cx="2143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income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5" name="Text Box 9"/>
            <p:cNvSpPr/>
            <p:nvPr/>
          </p:nvSpPr>
          <p:spPr>
            <a:xfrm>
              <a:off x="6373800" y="216864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Hungr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27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6" name="Text Box 10"/>
            <p:cNvSpPr/>
            <p:nvPr/>
          </p:nvSpPr>
          <p:spPr>
            <a:xfrm>
              <a:off x="6372360" y="278136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ussia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49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7" name="Text Box 11"/>
            <p:cNvSpPr/>
            <p:nvPr/>
          </p:nvSpPr>
          <p:spPr>
            <a:xfrm>
              <a:off x="6373800" y="335772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razil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64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042920" y="2006640"/>
              <a:ext cx="3673440" cy="198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 rot="18887400">
              <a:off x="1608120" y="3631320"/>
              <a:ext cx="2651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erfect equality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Rectangle 6"/>
            <p:cNvSpPr/>
            <p:nvPr/>
          </p:nvSpPr>
          <p:spPr>
            <a:xfrm>
              <a:off x="1116000" y="4076640"/>
              <a:ext cx="2879640" cy="1728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Text Box 16"/>
            <p:cNvSpPr/>
            <p:nvPr/>
          </p:nvSpPr>
          <p:spPr>
            <a:xfrm>
              <a:off x="6329520" y="3916440"/>
              <a:ext cx="2087280" cy="520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erfect inequalit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9E7FAC8-EF21-4722-9A88-CB8B39E3F10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very meas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15560" y="1630440"/>
            <a:ext cx="4498920" cy="5038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 mea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rve requirements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5,5-8,5%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1,5- 4,5%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refinancin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inistry of Finance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d fund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(≈ 1,2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0,5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bles for the capital marke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ate Agency for Deposit Insuranc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ance compensation is increased from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4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7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ousand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ecured lending         of bank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inancing foreign loans through V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4716360" y="1628640"/>
            <a:ext cx="4319640" cy="504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B sugges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convey the allocated funds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the majority of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rant access of the banks rated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S&amp;P, Fitch B-/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ody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 B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d capital over 1 bln. rubles to state resource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edit banks for the amount up to 50% of their capital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and Ministry of Finance should refinance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eign loans of the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should enlarge and simplify banks’ refinancin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90A8B20-9107-4508-AF9C-6EDAF9771CF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7164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питал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8" name="Object 3" descr=""/>
          <p:cNvPicPr/>
          <p:nvPr/>
        </p:nvPicPr>
        <p:blipFill>
          <a:blip r:embed="rId1"/>
          <a:stretch/>
        </p:blipFill>
        <p:spPr>
          <a:xfrm>
            <a:off x="615960" y="4156200"/>
            <a:ext cx="7824600" cy="2701800"/>
          </a:xfrm>
          <a:prstGeom prst="rect">
            <a:avLst/>
          </a:prstGeom>
          <a:ln w="0">
            <a:noFill/>
          </a:ln>
        </p:spPr>
      </p:pic>
      <p:pic>
        <p:nvPicPr>
          <p:cNvPr id="829" name="Object 4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894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10" descr=""/>
          <p:cNvPicPr/>
          <p:nvPr/>
        </p:nvPicPr>
        <p:blipFill>
          <a:blip r:embed="rId1"/>
          <a:stretch/>
        </p:blipFill>
        <p:spPr>
          <a:xfrm>
            <a:off x="41400" y="1928880"/>
            <a:ext cx="5072040" cy="40575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0" descr=""/>
          <p:cNvPicPr/>
          <p:nvPr/>
        </p:nvPicPr>
        <p:blipFill>
          <a:blip r:embed="rId2"/>
          <a:stretch/>
        </p:blipFill>
        <p:spPr>
          <a:xfrm>
            <a:off x="5214960" y="2786040"/>
            <a:ext cx="3786120" cy="3164040"/>
          </a:xfrm>
          <a:prstGeom prst="rect">
            <a:avLst/>
          </a:prstGeom>
          <a:ln w="0">
            <a:noFill/>
          </a:ln>
        </p:spPr>
      </p:pic>
      <p:sp>
        <p:nvSpPr>
          <p:cNvPr id="67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ADBF554-DD97-4EB7-BA27-54A991D562D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979640" y="62064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сстановится многое из того, что сейчас рушится,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будет разрушено многое из того, что сейчас в почете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винт Гораций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Oval 8"/>
          <p:cNvSpPr/>
          <p:nvPr/>
        </p:nvSpPr>
        <p:spPr>
          <a:xfrm>
            <a:off x="3903840" y="3643200"/>
            <a:ext cx="793440" cy="200052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AutoShape 9"/>
          <p:cNvSpPr/>
          <p:nvPr/>
        </p:nvSpPr>
        <p:spPr>
          <a:xfrm>
            <a:off x="4475160" y="4208400"/>
            <a:ext cx="1152360" cy="863640"/>
          </a:xfrm>
          <a:prstGeom prst="pi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174240" y="6524640"/>
            <a:ext cx="13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Micex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RB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479160" y="50720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MICEX INDEX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35714D5-FCA0-4531-BAA6-3C1FB36D4CE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1" name="Object 2" descr=""/>
          <p:cNvPicPr/>
          <p:nvPr/>
        </p:nvPicPr>
        <p:blipFill>
          <a:blip r:embed="rId1"/>
          <a:stretch/>
        </p:blipFill>
        <p:spPr>
          <a:xfrm>
            <a:off x="425520" y="4187880"/>
            <a:ext cx="8383680" cy="280332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050560" y="764640"/>
            <a:ext cx="70930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тивы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7210440" y="6461280"/>
            <a:ext cx="193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*данные по США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 учетом фондового рынка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4" name="Object 5" descr=""/>
          <p:cNvPicPr/>
          <p:nvPr/>
        </p:nvPicPr>
        <p:blipFill>
          <a:blip r:embed="rId2"/>
          <a:stretch/>
        </p:blipFill>
        <p:spPr>
          <a:xfrm>
            <a:off x="379440" y="1341360"/>
            <a:ext cx="83851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D7A68C5-E148-4F5C-AC8D-E702692EB62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6" name="Object 2" descr=""/>
          <p:cNvPicPr/>
          <p:nvPr/>
        </p:nvPicPr>
        <p:blipFill>
          <a:blip r:embed="rId1"/>
          <a:stretch/>
        </p:blipFill>
        <p:spPr>
          <a:xfrm>
            <a:off x="0" y="136224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979280" y="691920"/>
            <a:ext cx="71643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per capita in various countries i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2007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ousand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$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1590840" y="1982880"/>
            <a:ext cx="24764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0,0004%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of the populatio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ount for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2%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f the GDP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716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$)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158040" y="649908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ou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5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chest persons of Russia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Схема 5" descr=""/>
          <p:cNvPicPr/>
          <p:nvPr/>
        </p:nvPicPr>
        <p:blipFill>
          <a:blip r:embed="rId1"/>
          <a:stretch/>
        </p:blipFill>
        <p:spPr>
          <a:xfrm>
            <a:off x="208080" y="1530360"/>
            <a:ext cx="8802720" cy="51944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policy of Russian government should prevent from turning the financial crisis into a global economic crisi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7E10738-03A8-471E-B68E-ABB72E50476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Не равно 4"/>
          <p:cNvSpPr/>
          <p:nvPr/>
        </p:nvSpPr>
        <p:spPr>
          <a:xfrm>
            <a:off x="4157640" y="1714680"/>
            <a:ext cx="84312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Плюс 6"/>
          <p:cNvSpPr/>
          <p:nvPr/>
        </p:nvSpPr>
        <p:spPr>
          <a:xfrm>
            <a:off x="7429680" y="4214880"/>
            <a:ext cx="914400" cy="914400"/>
          </a:xfrm>
          <a:prstGeom prst="pie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Минус 7"/>
          <p:cNvSpPr/>
          <p:nvPr/>
        </p:nvSpPr>
        <p:spPr>
          <a:xfrm>
            <a:off x="785880" y="4071960"/>
            <a:ext cx="91440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ic macroeconomic and banking sector indicator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285840" y="1658880"/>
          <a:ext cx="8715240" cy="4984920"/>
        </p:xfrm>
        <a:graphic>
          <a:graphicData uri="http://schemas.openxmlformats.org/drawingml/2006/table">
            <a:tbl>
              <a:tblPr/>
              <a:tblGrid>
                <a:gridCol w="4143240"/>
                <a:gridCol w="1214640"/>
                <a:gridCol w="1666800"/>
                <a:gridCol w="16905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n. $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01.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ts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5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2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ty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7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2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8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4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2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7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4,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croeconomic indicato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D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9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s in fixed capi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6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3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 income of the popu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5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0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9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9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7658630-CB2E-4A43-853F-2CC0361F4E5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692A6B4-99AD-4785-ADFA-F27215A1412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985760" y="699840"/>
            <a:ext cx="7143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ussia falls behind other countries by absolute and relative in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cato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93" name="Содержимое 9"/>
          <p:cNvGraphicFramePr/>
          <p:nvPr/>
        </p:nvGraphicFramePr>
        <p:xfrm>
          <a:off x="139680" y="1660680"/>
          <a:ext cx="2851200" cy="48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4" name="Содержимое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660680"/>
                    <a:ext cx="2851200" cy="48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5"/>
          <p:cNvGraphicFramePr/>
          <p:nvPr/>
        </p:nvGraphicFramePr>
        <p:xfrm>
          <a:off x="3146400" y="1658880"/>
          <a:ext cx="2835360" cy="483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6400" y="1658880"/>
                    <a:ext cx="283536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6"/>
          <p:cNvGraphicFramePr/>
          <p:nvPr/>
        </p:nvGraphicFramePr>
        <p:xfrm>
          <a:off x="6168960" y="1660680"/>
          <a:ext cx="2927520" cy="4857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8960" y="1660680"/>
                    <a:ext cx="292752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Равно 28"/>
          <p:cNvSpPr/>
          <p:nvPr/>
        </p:nvSpPr>
        <p:spPr>
          <a:xfrm>
            <a:off x="5715000" y="3728880"/>
            <a:ext cx="771480" cy="77184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Деление 26"/>
          <p:cNvSpPr/>
          <p:nvPr/>
        </p:nvSpPr>
        <p:spPr>
          <a:xfrm>
            <a:off x="2714760" y="3714840"/>
            <a:ext cx="730080" cy="72540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01" name="Прямая со стрелкой 30"/>
          <p:cNvCxnSpPr/>
          <p:nvPr/>
        </p:nvCxnSpPr>
        <p:spPr>
          <a:xfrm flipH="1" flipV="1">
            <a:off x="1356480" y="2428560"/>
            <a:ext cx="786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2" name="TextBox 31"/>
          <p:cNvSpPr/>
          <p:nvPr/>
        </p:nvSpPr>
        <p:spPr>
          <a:xfrm>
            <a:off x="1483920" y="2143080"/>
            <a:ext cx="62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,7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TextBox 10"/>
          <p:cNvSpPr/>
          <p:nvPr/>
        </p:nvSpPr>
        <p:spPr>
          <a:xfrm>
            <a:off x="61920" y="667080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of Russia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utsche Bundesbank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F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TextBox 11"/>
          <p:cNvSpPr/>
          <p:nvPr/>
        </p:nvSpPr>
        <p:spPr>
          <a:xfrm>
            <a:off x="2163240" y="607212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ussia has a crisis of underproduc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EB22E9B-3B26-4337-AE75-F8757763180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4844880" y="3798720"/>
            <a:ext cx="395928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7" name="Содержимое 6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4429080" cy="51148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3" descr=""/>
          <p:cNvPicPr/>
          <p:nvPr/>
        </p:nvPicPr>
        <p:blipFill>
          <a:blip r:embed="rId2"/>
          <a:stretch/>
        </p:blipFill>
        <p:spPr>
          <a:xfrm>
            <a:off x="4714920" y="1571760"/>
            <a:ext cx="4286160" cy="5114880"/>
          </a:xfrm>
          <a:prstGeom prst="rect">
            <a:avLst/>
          </a:prstGeom>
          <a:ln w="0">
            <a:noFill/>
          </a:ln>
        </p:spPr>
      </p:pic>
      <p:sp>
        <p:nvSpPr>
          <p:cNvPr id="709" name="Прямая соединительная линия 8"/>
          <p:cNvSpPr/>
          <p:nvPr/>
        </p:nvSpPr>
        <p:spPr>
          <a:xfrm flipH="1">
            <a:off x="4070520" y="2071800"/>
            <a:ext cx="1440" cy="450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0" name="Прямая со стрелкой 10"/>
          <p:cNvCxnSpPr/>
          <p:nvPr/>
        </p:nvCxnSpPr>
        <p:spPr>
          <a:xfrm flipH="1" flipV="1">
            <a:off x="2285280" y="6428520"/>
            <a:ext cx="17866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TextBox 11"/>
          <p:cNvSpPr/>
          <p:nvPr/>
        </p:nvSpPr>
        <p:spPr>
          <a:xfrm>
            <a:off x="2972880" y="6264360"/>
            <a:ext cx="53424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х 5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Прямая соединительная линия 15"/>
          <p:cNvSpPr/>
          <p:nvPr/>
        </p:nvSpPr>
        <p:spPr>
          <a:xfrm flipH="1">
            <a:off x="7786800" y="542916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3" name="Прямая со стрелкой 19"/>
          <p:cNvCxnSpPr/>
          <p:nvPr/>
        </p:nvCxnSpPr>
        <p:spPr>
          <a:xfrm flipH="1" flipV="1">
            <a:off x="6928920" y="6286320"/>
            <a:ext cx="8582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4" name="Rectangle 2"/>
          <p:cNvSpPr/>
          <p:nvPr/>
        </p:nvSpPr>
        <p:spPr>
          <a:xfrm>
            <a:off x="1979640" y="708120"/>
            <a:ext cx="71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ussia falls behind many other countries in mortgage lending despite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igh growth rates of the mark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Схема 6" descr=""/>
          <p:cNvPicPr/>
          <p:nvPr/>
        </p:nvPicPr>
        <p:blipFill>
          <a:blip r:embed="rId1"/>
          <a:stretch/>
        </p:blipFill>
        <p:spPr>
          <a:xfrm>
            <a:off x="920880" y="1822320"/>
            <a:ext cx="7441920" cy="4962600"/>
          </a:xfrm>
          <a:prstGeom prst="rect">
            <a:avLst/>
          </a:prstGeom>
          <a:ln w="0">
            <a:noFill/>
          </a:ln>
        </p:spPr>
      </p:pic>
      <p:sp>
        <p:nvSpPr>
          <p:cNvPr id="716" name="Скругленный прямоугольник 9"/>
          <p:cNvSpPr/>
          <p:nvPr/>
        </p:nvSpPr>
        <p:spPr>
          <a:xfrm>
            <a:off x="3929040" y="1785960"/>
            <a:ext cx="1428840" cy="321480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3214800"/>
              <a:gd name="textAreaBottom" fmla="*/ 3145320 h 3214800"/>
            </a:gdLst>
            <a:ahLst/>
            <a:rect l="textAreaLeft" t="textAreaTop" r="textAreaRight" b="textAreaBottom"/>
            <a:pathLst>
              <a:path w="21600" h="48592">
                <a:moveTo>
                  <a:pt x="3600" y="0"/>
                </a:moveTo>
                <a:arcTo wR="3600" hR="3600" stAng="16200000" swAng="-5400000"/>
                <a:lnTo>
                  <a:pt x="0" y="44992"/>
                </a:lnTo>
                <a:arcTo wR="3600" hR="3600" stAng="10800000" swAng="-5400000"/>
                <a:lnTo>
                  <a:pt x="18000" y="485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Выноска 1 (с границей) 7"/>
          <p:cNvSpPr/>
          <p:nvPr/>
        </p:nvSpPr>
        <p:spPr>
          <a:xfrm>
            <a:off x="7286760" y="2786040"/>
            <a:ext cx="1428480" cy="71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tiall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is essential to restore a complete banking cy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B793F9D-6E30-4889-BF6A-FCFEBA62BB4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Прямоугольник 4"/>
          <p:cNvSpPr/>
          <p:nvPr/>
        </p:nvSpPr>
        <p:spPr>
          <a:xfrm>
            <a:off x="857160" y="1428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in thing here is to recover confidence between entiti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Выноска 1 (с границей) 5"/>
          <p:cNvSpPr/>
          <p:nvPr/>
        </p:nvSpPr>
        <p:spPr>
          <a:xfrm>
            <a:off x="6188040" y="1857240"/>
            <a:ext cx="1500120" cy="7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723" y="21495"/>
                </a:moveTo>
                <a:lnTo>
                  <a:pt x="-1800" y="872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mos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Выноска 1 (с границей) 8"/>
          <p:cNvSpPr/>
          <p:nvPr/>
        </p:nvSpPr>
        <p:spPr>
          <a:xfrm>
            <a:off x="6273720" y="5715000"/>
            <a:ext cx="1500120" cy="5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97" y="258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Скругленный прямоугольник 10"/>
          <p:cNvSpPr/>
          <p:nvPr/>
        </p:nvSpPr>
        <p:spPr>
          <a:xfrm>
            <a:off x="2143080" y="3571920"/>
            <a:ext cx="5000760" cy="157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Скругленный прямоугольник 11"/>
          <p:cNvSpPr/>
          <p:nvPr/>
        </p:nvSpPr>
        <p:spPr>
          <a:xfrm>
            <a:off x="3746520" y="3429000"/>
            <a:ext cx="1785960" cy="329868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3298680"/>
              <a:gd name="textAreaBottom" fmla="*/ 3211560 h 3298680"/>
            </a:gdLst>
            <a:ahLst/>
            <a:rect l="textAreaLeft" t="textAreaTop" r="textAreaRight" b="textAreaBottom"/>
            <a:pathLst>
              <a:path w="21600" h="39892">
                <a:moveTo>
                  <a:pt x="3600" y="0"/>
                </a:moveTo>
                <a:arcTo wR="3600" hR="3600" stAng="16200000" swAng="-5400000"/>
                <a:lnTo>
                  <a:pt x="0" y="36292"/>
                </a:lnTo>
                <a:arcTo wR="3600" hR="3600" stAng="10800000" swAng="-5400000"/>
                <a:lnTo>
                  <a:pt x="18000" y="39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uaranties are the main way to reduce the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trust at the mark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26" name="Содержимое 8"/>
          <p:cNvGraphicFramePr/>
          <p:nvPr/>
        </p:nvGraphicFramePr>
        <p:xfrm>
          <a:off x="428760" y="2214720"/>
          <a:ext cx="8358120" cy="407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7" name="Содержимое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14720"/>
                    <a:ext cx="83581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E7339B9-0BC3-48E4-8199-A296B86C45B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142920" y="6523200"/>
            <a:ext cx="310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Источник: Данные конференции ФБК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1428840" y="15001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developed economies a substantial part of governmental assistance are the guarant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Григорян</cp:lastModifiedBy>
  <dcterms:modified xsi:type="dcterms:W3CDTF">2008-11-27T18:04:02Z</dcterms:modified>
  <cp:revision>498</cp:revision>
  <dc:subject/>
  <dc:title>Расширение кредитования – важнейший фактор экономического роста России </dc:title>
</cp:coreProperties>
</file>